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40EF-06DE-4D39-A018-7480AD2F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2BB0-D467-4163-BFCE-B31461FC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F89F-F953-49C5-902D-E700B9A1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C081-ACD2-49EC-A9D1-7430B591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13FE-471F-4DE6-B8B5-8C1E589E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AC72-40FE-473C-8358-CBDCD5AB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412-7830-4CFB-9D49-22A54C88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3E16-B8FF-4267-A181-D5A24685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577B-8635-479F-A38A-2BA27121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F6A3-F98A-450A-829F-DCAA31D3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62CE-D169-438C-B07F-7132FACB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9B0B-22E3-449C-BF82-941A4E22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BE64-068B-4A34-8D86-DBC9ACF5A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57200"/>
            <a:ext cx="4572000" cy="646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66"/>
                </a:solidFill>
                <a:latin typeface="Curlz MT"/>
              </a:rPr>
              <a:t>Fantasy is…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0066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urlz MT"/>
              </a:rPr>
              <a:t>Imagina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0066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urlz MT"/>
              </a:rPr>
              <a:t>Magi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0066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urlz MT"/>
              </a:rPr>
              <a:t>Dreamli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0066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urlz MT"/>
              </a:rPr>
              <a:t>Str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0066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urlz MT"/>
              </a:rPr>
              <a:t>Wonderfu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3124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Curlz MT"/>
              </a:rPr>
              <a:t>Other Fantasy Author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7960" y="24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urlz MT"/>
              </a:rPr>
              <a:t>Maurice Send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urlz MT"/>
              </a:rPr>
              <a:t>Dick King-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urlz MT"/>
              </a:rPr>
              <a:t>Gregory Magu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urlz MT"/>
              </a:rPr>
              <a:t>Todd Stras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urlz MT"/>
              </a:rPr>
              <a:t>Brian Jac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urlz MT"/>
              </a:rPr>
              <a:t>Astrid lindg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urlz MT"/>
              </a:rPr>
              <a:t>Eoin Col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urlz MT"/>
              </a:rPr>
              <a:t>Ruth Stiles Gan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urlz MT"/>
              </a:rPr>
              <a:t>Dr. Se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urlz MT"/>
              </a:rPr>
              <a:t>Chris Van Allsbu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365760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0066"/>
                </a:solidFill>
                <a:latin typeface="Curlz MT"/>
              </a:rPr>
              <a:t>Animal Stori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527280" cy="38102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800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99"/>
                </a:solidFill>
                <a:latin typeface="Curlz MT"/>
              </a:rPr>
              <a:t>Animals talk and act like peopl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Curlz MT"/>
              </a:rPr>
              <a:t>Toys come to life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99"/>
                </a:solidFill>
                <a:latin typeface="Curlz MT"/>
              </a:rPr>
              <a:t>Dolls, stuffed animals or other toys come al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660066"/>
                </a:solidFill>
                <a:latin typeface="Curlz MT"/>
              </a:rPr>
              <a:t>Magical Tale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3352680" cy="4114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99"/>
                </a:solidFill>
                <a:latin typeface="Curlz MT"/>
              </a:rPr>
              <a:t>Characters have magical power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660066"/>
                </a:solidFill>
                <a:latin typeface="Curlz MT"/>
              </a:rPr>
              <a:t>Extraordinary Worl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99"/>
                </a:solidFill>
                <a:latin typeface="Curlz MT"/>
              </a:rPr>
              <a:t>Characters live in a totally imaginary world with magic, unusual creatures and sett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81080" y="3421080"/>
            <a:ext cx="50292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Curlz MT"/>
              </a:rPr>
              <a:t>Fantasy Author:  Roald Dah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Curlz MT"/>
              </a:rPr>
              <a:t>Charlie and the Chocolate Fa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Curlz MT"/>
              </a:rPr>
              <a:t>James and the Giant P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Curlz MT"/>
              </a:rPr>
              <a:t>The Wit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Curlz MT"/>
              </a:rPr>
              <a:t>The BF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Curlz MT"/>
              </a:rPr>
              <a:t>The Tw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Curlz MT"/>
              </a:rPr>
              <a:t>Matil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27730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660066"/>
              </a:solidFill>
              <a:latin typeface="Curlz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24433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Curlz MT"/>
              </a:rPr>
              <a:t>Fantasy Author:</a:t>
            </a:r>
            <a:br>
              <a:rPr sz="6000"/>
            </a:br>
            <a:r>
              <a:rPr b="1" lang="en-US" sz="6000" spc="-1" strike="noStrike">
                <a:solidFill>
                  <a:srgbClr val="660066"/>
                </a:solidFill>
                <a:latin typeface="Curlz MT"/>
              </a:rPr>
              <a:t>  C.S. Lew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Curlz MT"/>
              </a:rPr>
              <a:t>The Lion, the Witch and the Wardro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Curlz MT"/>
              </a:rPr>
              <a:t>The Magician’s Neph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Curlz MT"/>
              </a:rPr>
              <a:t>Prince Casp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Curlz MT"/>
              </a:rPr>
              <a:t>The Silver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Curlz MT"/>
              </a:rPr>
              <a:t>Horse and His B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2882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Curlz MT"/>
              </a:rPr>
              <a:t>Fantasy Author:</a:t>
            </a:r>
            <a:br>
              <a:rPr sz="6000"/>
            </a:br>
            <a:r>
              <a:rPr b="1" lang="en-US" sz="6000" spc="-1" strike="noStrike">
                <a:solidFill>
                  <a:srgbClr val="660066"/>
                </a:solidFill>
                <a:latin typeface="Curlz MT"/>
              </a:rPr>
              <a:t>  E.B. Whi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Curlz MT"/>
              </a:rPr>
              <a:t>Charlotte’s W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Curlz MT"/>
              </a:rPr>
              <a:t>Stuart Lit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Curlz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Curlz MT"/>
              </a:rPr>
              <a:t>Trumpet of the Sw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00:28:29Z</dcterms:created>
  <dc:creator>CLD</dc:creator>
  <dc:description/>
  <dc:language>en-US</dc:language>
  <cp:lastModifiedBy>Judith M Paradis</cp:lastModifiedBy>
  <dcterms:modified xsi:type="dcterms:W3CDTF">2006-10-20T18:59:00Z</dcterms:modified>
  <cp:revision>4</cp:revision>
  <dc:subject/>
  <dc:title>No Slide Title</dc:title>
</cp:coreProperties>
</file>